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media/image11.pct" ContentType="image/x-pict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5C5E-EADE-49A1-82AB-230C0F81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35F-6829-4B2C-9321-313DDF64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6D32-3AEA-4C02-923D-98DB50DC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F2-515C-4BE0-A226-372F6438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CD6-A68C-44C1-A0FC-18DE9212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25DB-9987-4406-8E32-00E3D4E1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64B1-7B54-4E91-83DC-00A42B14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E914-369F-465E-B1D7-E046FA3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E9D6-6205-4C87-A02C-5A62D79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5FBC-F040-459D-9112-0A4EABA7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90D7-4185-4840-953C-036B6772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8FEF-A58A-4D67-854A-C715ED8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C8EB-DA88-447E-9C0B-B349F02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523-2D73-4488-BBCD-D769D8B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D73-6A8D-4F3C-B394-DC9F7682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3466-E849-437B-AC86-0F01005C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8825-52FC-45B0-8E6E-874B35A6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0A1-E189-4A57-8957-60C320AA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6F5-B5C1-4CAA-AE58-00DCBAED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BCC-DF3D-4197-B89D-0A5648A7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E91-5C5A-4912-A3ED-15009C31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288-7508-4D55-A54A-7164D7C6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9FF-5598-4AC0-94B2-7A2840AF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9E6-5914-43D7-879D-EACCA564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7F1D-1081-401B-94B6-A2E43E47FEB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A6A1-2298-4640-84E6-0202C3BC27C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fcff"/>
                </a:solidFill>
                <a:latin typeface="Blackmoor LET"/>
              </a:rPr>
              <a:t>Diary of a Wimpy Kid </a:t>
            </a:r>
            <a:br>
              <a:rPr sz="4400"/>
            </a:br>
            <a:r>
              <a:rPr b="0" lang="en-US" sz="4400" spc="-1" strike="noStrike">
                <a:solidFill>
                  <a:srgbClr val="3ffcff"/>
                </a:solidFill>
                <a:latin typeface="Blackmoor LET"/>
              </a:rPr>
              <a:t>The  Ugly Tr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2176560" cy="3200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52280" y="3886200"/>
            <a:ext cx="2330640" cy="255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2438280" y="3962520"/>
            <a:ext cx="4267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By: Omar Coronel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2666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d00"/>
                </a:solidFill>
                <a:latin typeface="Arial Black"/>
              </a:rPr>
              <a:t>Author: Jeff Kin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fcff"/>
                </a:solidFill>
                <a:latin typeface="Blackmoor LET"/>
              </a:rPr>
              <a:t>Image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217.photobucke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lickthecity.com diary-of-a-wimpy-kid.wikia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k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aca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Diary of a Wimpy Kid The Ugly Truth</a:t>
            </a: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1cff"/>
                </a:solidFill>
                <a:latin typeface="Arial"/>
              </a:rPr>
              <a:t>The author name is :Jeff Ke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moor LET"/>
              </a:rPr>
              <a:t>Charac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Frank: Greg’s father, bossy,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Mom: sometimes nice Greg’s 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Rodrick: Greg’s big brother, mean, bos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Rowley: Greg’s best friend,nice wei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Gammie:frank mom ,old,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Greg: funny ,not smart,wei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Manny: Greg’s little brother,cry ba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75480" y="3048120"/>
            <a:ext cx="156852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105520" y="228600"/>
            <a:ext cx="1303200" cy="1600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895480" y="38088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4038480" y="380880"/>
            <a:ext cx="1168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400800" y="2286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7672320" y="1219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7"/>
          <a:srcRect l="22036" t="34917" r="61055" b="17832"/>
          <a:stretch/>
        </p:blipFill>
        <p:spPr>
          <a:xfrm>
            <a:off x="6477120" y="1905120"/>
            <a:ext cx="1122120" cy="2133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2000" y="29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3ff06"/>
                </a:solidFill>
                <a:latin typeface="Blackmoor LET"/>
              </a:rPr>
              <a:t>Set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Greg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ff06"/>
                </a:solidFill>
                <a:latin typeface="Blackmoor LET"/>
              </a:rPr>
              <a:t>Gammie’s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00"/>
                </a:solidFill>
                <a:latin typeface="Blackmoor LET"/>
              </a:rPr>
              <a:t>Probl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d00"/>
                </a:solidFill>
                <a:latin typeface="Blackmoor LET"/>
              </a:rPr>
              <a:t>Greg and Rowley got into a big argument, so Greg is trying to save his friendship with Rowley by fixing the probl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891429" t="88250" r="0" b="176500"/>
          <a:stretch/>
        </p:blipFill>
        <p:spPr>
          <a:xfrm>
            <a:off x="7620120" y="3352680"/>
            <a:ext cx="1125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fcff"/>
                </a:solidFill>
                <a:latin typeface="Blackmoor LET"/>
              </a:rPr>
              <a:t>1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It’s back to school after a summer va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Greg tries to save his friendship with Row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68f7f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fcff"/>
                </a:solidFill>
                <a:latin typeface="Blackmoor LET"/>
              </a:rPr>
              <a:t>Trying to keep up his grades in school so he doesn’t fa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00"/>
                </a:solidFill>
                <a:latin typeface="Blackmoor LET"/>
              </a:rPr>
              <a:t>2 Main Ev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80"/>
                </a:solidFill>
                <a:latin typeface="Blackmoor LET"/>
              </a:rPr>
              <a:t>Greg’s mom goes to school and Greg ‘brothers and Dad are on they’re ow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03968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80"/>
                </a:solidFill>
                <a:latin typeface="Blackmoor LET"/>
              </a:rPr>
              <a:t>Greg’s is trying to get invited to Jordan Jury;s par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8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aca6"/>
                </a:solidFill>
                <a:latin typeface="Blackmoor LET"/>
              </a:rPr>
              <a:t>Author Me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Blackmoor LET"/>
              </a:rPr>
              <a:t>Always try to fix your problem with friends  so you can have a longer friendship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085160" y="2590920"/>
            <a:ext cx="1717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f83ff"/>
                </a:solidFill>
                <a:latin typeface="Blackmoor LET"/>
              </a:rPr>
              <a:t>Author  Bibliograp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aa"/>
                </a:solidFill>
                <a:latin typeface="Blackmoor LET"/>
              </a:rPr>
              <a:t>Jeff Kinney has made 7 Diary of a Wimpy Kid  boo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0000"/>
                </a:solidFill>
                <a:latin typeface="Blackmoor LET"/>
              </a:rPr>
              <a:t>Diary of a Wimpy K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8ac"/>
                </a:solidFill>
                <a:latin typeface="Blackmoor LET"/>
              </a:rPr>
              <a:t>Diary of a Wimpy Kid Rodrick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Blackmoor LET"/>
              </a:rPr>
              <a:t>Diary of a Wimpy Kid The Last St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7aa"/>
                </a:solidFill>
                <a:latin typeface="Blackmoor LET"/>
              </a:rPr>
              <a:t> </a:t>
            </a:r>
            <a:r>
              <a:rPr b="0" lang="en-US" sz="2800" spc="-1" strike="noStrike">
                <a:solidFill>
                  <a:srgbClr val="ffdd00"/>
                </a:solidFill>
                <a:latin typeface="Blackmoor LET"/>
              </a:rPr>
              <a:t>Diary of  a Wimpy Kid Dog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Blackmoor LET"/>
              </a:rPr>
              <a:t>Diary of a Wimpy Kid Do It Yourself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moor LET"/>
              </a:rPr>
              <a:t>The Wimpy Kid Movie D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-299520">
              <a:lnSpc>
                <a:spcPct val="100000"/>
              </a:lnSpc>
              <a:spcBef>
                <a:spcPts val="700"/>
              </a:spcBef>
              <a:buClr>
                <a:srgbClr val="16ffd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1cff"/>
                </a:solidFill>
                <a:latin typeface="Blackmoor LET"/>
              </a:rPr>
              <a:t>Diary of a Wimpy Kid The Ugly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315200" y="4114800"/>
            <a:ext cx="1639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6:17:32Z</dcterms:created>
  <dc:creator>D83  User</dc:creator>
  <dc:description/>
  <dc:language>en-US</dc:language>
  <cp:lastModifiedBy>D83  User</cp:lastModifiedBy>
  <dcterms:modified xsi:type="dcterms:W3CDTF">2010-12-03T16:21:13Z</dcterms:modified>
  <cp:revision>24</cp:revision>
  <dc:subject/>
  <dc:title>Diary of a Wimpy Kid The  Ugly Truth</dc:title>
</cp:coreProperties>
</file>